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0EBC-2899-4120-8370-4DE175AF9670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6A1A-E6FA-403B-A490-E949A583BB8B}" type="slidenum">
              <a:rPr b="0" lang="en-C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5133-0D62-4C8F-A71C-7704CE74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4D3-222F-4FF5-A0E4-2BC2B5DB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CA2-5EE8-4A7E-AC0B-96948276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88DD-9160-4645-901A-B0101BB1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3807-922E-469A-A61F-A8761B27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6129-539E-4A49-A98F-42865EED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43C6-4E1E-4D50-92CE-2694FC0E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5932-8BF5-4B58-9083-B93150A6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3F5B-C568-41E1-B107-1C401406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72EA-4656-491E-8F15-660491C2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0AB0-722B-4586-B702-3C138EF0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0889-0786-4EE9-896E-C0A16BFA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C727-D8A1-4855-98B6-C8DF652C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D92C-CE51-4356-8DD4-CE4F6EEC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3B08-0CFA-4C00-9128-E1DF9C92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941C-3528-4A05-88EE-01F12BD5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95A7-DC2C-4328-B8BC-4DAAEE75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E29-4961-4F15-A409-20A5BCD4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B8F-E9CD-41DF-B6BD-DDCABCDC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9635-3126-4034-82E6-187ED450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6EB-9DDA-482A-811F-2C51A4FC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F15-DF25-4D0F-A8E8-13F50364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84A-848C-4A7D-A0AA-CF06CC65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D4CD-58E9-4489-871E-C4D6991E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5A15-FB51-4CD9-B5DF-A886B5EC5539}" type="slidenum">
              <a:rPr b="0" lang="en-CA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41FC-20F7-4C85-AABF-253CD61FAA46}" type="slidenum">
              <a:rPr b="0" lang="en-CA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danscartoons.com/" TargetMode="External"/><Relationship Id="rId2" Type="http://schemas.openxmlformats.org/officeDocument/2006/relationships/hyperlink" Target="http://www.sasked.gov.sk.ca/branches/aar/prov_exams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601640"/>
            <a:ext cx="777240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00"/>
                </a:solidFill>
                <a:latin typeface="Arial"/>
              </a:rPr>
              <a:t>Preparing for Departmental </a:t>
            </a:r>
            <a:br>
              <a:rPr sz="4400"/>
            </a:br>
            <a:r>
              <a:rPr b="0" lang="en-CA" sz="4400" spc="-1" strike="noStrike">
                <a:solidFill>
                  <a:srgbClr val="ffcc00"/>
                </a:solidFill>
                <a:latin typeface="Arial"/>
              </a:rPr>
              <a:t>Exams     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80720" y="358092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ffffcc"/>
                </a:solidFill>
                <a:latin typeface="Arial"/>
              </a:rPr>
              <a:t>Don’t Panic, Be Prepared!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Bev Ptolem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Sun West School Divis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view how to use your graphing calculat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ring calculator to ma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ring dictionary, text &amp;/or notebook to chemistry as its open book (exams/prototypes not allow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udy for open book as you don’t have time to look up everything and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on’t finish!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lag important note/text sections, formulas, examples to refer to quickly on the open boo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th/science questions usually in order of units, number of questions correlates to time given in cour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ffcc00"/>
                </a:solidFill>
                <a:latin typeface="Arial"/>
              </a:rPr>
              <a:t>Test-Taking Strategies 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cc"/>
                </a:solidFill>
                <a:latin typeface="Arial"/>
              </a:rPr>
              <a:t>General Tips for Test Taking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Take 2:  take 2 min to unload memory bank of nb stuff onto back of paper (names, dates, formulas, memory tricks etc.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Read directions (circle key direction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Skim entire test before start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Answer quest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Star the ones you don’t know, and continue on, coming back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Double check answ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If you aren’t certain of an answer,  go with your “first instinct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Budget time wisely, do ones you know &amp; worth a lot first (ex. essay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ultiple Choice Strategies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1920" y="205740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ad the whole ques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ry to answer the question before looking at the answer choices, compare yours to the one that is simila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e the process of elimination; look for distractors, eliminate the choices that are wro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k backwards from each answer choice to see if it is possibl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iminate choices that seem to general, or too vagu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C  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liminate choices that don’t fit grammatical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f there are two opposite answers, one of them is often the right answ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rrect choices are sometimes long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se information in the other questions as clues to help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n’t just guess, do the questions on paper to find answ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uble check answers to math questions by substituting in answer into the equa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ssay question strategies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Know the key word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velop a quick outline first (planning box on EL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or short answers, start by rephrasing the question as answ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ick to formal sty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alyze and give examples, don’t just retell plot or comment on them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ollow structure for paragraphs &amp; essays being sure to have thesis/topic statements that you prove with eviden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read, revise and edit to be sure your answer is clea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1835280" y="5176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1835280" y="517680"/>
            <a:ext cx="5475240" cy="5822640"/>
            <a:chOff x="1835280" y="517680"/>
            <a:chExt cx="5475240" cy="5822640"/>
          </a:xfrm>
        </p:grpSpPr>
        <p:grpSp>
          <p:nvGrpSpPr>
            <p:cNvPr id="134" name="Group 8"/>
            <p:cNvGrpSpPr/>
            <p:nvPr/>
          </p:nvGrpSpPr>
          <p:grpSpPr>
            <a:xfrm>
              <a:off x="1835280" y="517680"/>
              <a:ext cx="5475240" cy="5822640"/>
              <a:chOff x="1835280" y="517680"/>
              <a:chExt cx="5475240" cy="5822640"/>
            </a:xfrm>
          </p:grpSpPr>
          <p:sp>
            <p:nvSpPr>
              <p:cNvPr id="135" name="Rectangle 5"/>
              <p:cNvSpPr/>
              <p:nvPr/>
            </p:nvSpPr>
            <p:spPr>
              <a:xfrm>
                <a:off x="1835280" y="517680"/>
                <a:ext cx="54752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" name="Rectangle 6"/>
              <p:cNvSpPr/>
              <p:nvPr/>
            </p:nvSpPr>
            <p:spPr>
              <a:xfrm>
                <a:off x="1835280" y="517680"/>
                <a:ext cx="5475240" cy="582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800" spc="-1" strike="noStrike" u="sng">
                    <a:solidFill>
                      <a:srgbClr val="cc6600"/>
                    </a:solidFill>
                    <a:uFillTx/>
                    <a:latin typeface="Verdana"/>
                    <a:hlinkClick r:id="rId1"/>
                  </a:rPr>
                  <a:t>  </a:t>
                </a:r>
                <a:r>
                  <a:rPr b="0" lang="en-CA" sz="36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CA" sz="8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7" name="Rectangle 9"/>
            <p:cNvSpPr/>
            <p:nvPr/>
          </p:nvSpPr>
          <p:spPr>
            <a:xfrm>
              <a:off x="1835280" y="517680"/>
              <a:ext cx="5475240" cy="5822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38" name="Picture 7" descr="finalansw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563400"/>
            <a:ext cx="4892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1219320" y="3733920"/>
            <a:ext cx="6172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Have a great exam week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835280" y="647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1835280" y="647640"/>
            <a:ext cx="5475240" cy="5564160"/>
            <a:chOff x="1835280" y="647640"/>
            <a:chExt cx="5475240" cy="5564160"/>
          </a:xfrm>
        </p:grpSpPr>
        <p:grpSp>
          <p:nvGrpSpPr>
            <p:cNvPr id="99" name="Group 6"/>
            <p:cNvGrpSpPr/>
            <p:nvPr/>
          </p:nvGrpSpPr>
          <p:grpSpPr>
            <a:xfrm>
              <a:off x="1835280" y="647640"/>
              <a:ext cx="5475240" cy="5564160"/>
              <a:chOff x="1835280" y="647640"/>
              <a:chExt cx="5475240" cy="556416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1835280" y="647640"/>
                <a:ext cx="54752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" name="Rectangle 4"/>
              <p:cNvSpPr/>
              <p:nvPr/>
            </p:nvSpPr>
            <p:spPr>
              <a:xfrm>
                <a:off x="1835280" y="647640"/>
                <a:ext cx="5475240" cy="556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8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CA" sz="34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CA" sz="8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2" name="Rectangle 7"/>
            <p:cNvSpPr/>
            <p:nvPr/>
          </p:nvSpPr>
          <p:spPr>
            <a:xfrm>
              <a:off x="1835280" y="647640"/>
              <a:ext cx="5475240" cy="55641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03" name="Picture 5" descr="Cartoon_149wtmk"/>
          <p:cNvPicPr/>
          <p:nvPr/>
        </p:nvPicPr>
        <p:blipFill>
          <a:blip r:embed="rId1"/>
          <a:stretch/>
        </p:blipFill>
        <p:spPr>
          <a:xfrm>
            <a:off x="1981080" y="693720"/>
            <a:ext cx="452592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720080" y="304920"/>
            <a:ext cx="513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What Would You Do If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This Happens To You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514600" y="3581280"/>
            <a:ext cx="621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lip over the exam or on blank paper,  list information /topics you rememb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aking in  the class.  Soon your brain will function again and most of it will come back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2535120" y="2057400"/>
            <a:ext cx="626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prepared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 this  freeze up doesn’t happ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you,  but, if it does . . 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00"/>
                </a:solidFill>
                <a:latin typeface="Arial"/>
              </a:rPr>
              <a:t>Format of Final Exams 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 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Math  and Sciences: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* 50  multiple choi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hemistry is “open book”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 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ELA:   Combination of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* 25 Multiple choice for essay structure/ sentence errors/ literary  terms</a:t>
            </a:r>
            <a:r>
              <a:rPr b="0" lang="en-CA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/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ading comprehens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* Short answ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* Personal respon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* Literary essay writing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 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A30  has one less essay  than B 30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eneral Study Tip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isten to your mother’s advic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you need to study ahead so that you’ve done the bulk of it and have only to review the night before, in case a crisis occurs!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et lots of rest, get fresh air &amp; exercise just before exa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at a nutritious breakfast &amp; lunch to kick start the bra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f you have a  stress headache, drink a Coke or coffee a half hour prior to the exam, opens the blood vessels to bra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eneral Tips 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ctiv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study not passiv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n’t  j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read,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every operation your brain does stores the information 2 X longer than just reading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ke  your own study notes, don’t just use someone’s. Make them concise. Then, compare yours to their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reate acronyms or other memory tricks, use diagram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scribe or explain to yourself alou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 in class reviews, ask ques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urn questions into no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do questions and then compare your answe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ke up practice quizzes and do them at a later tim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udy with a friend but not until you’ve done the individual work.  Try to explain/demo/ teach each other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Visualize what you want to rememb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ork at i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; if you’ve forgotten how to do it, look back at text, notes, examples, find out what stumps you and ask for help from ther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;don’t give up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00"/>
                </a:solidFill>
                <a:latin typeface="Arial"/>
              </a:rPr>
              <a:t>ELA Study Tips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Make study notes /webs. Practise fixing grammar/spelling et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Create acronym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Frame answers to essay question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Identify selections and genres that could be used for each theme essay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Do a prototype exam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Review answers to prototype/review rubric to see “the bar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Choose pieces enjoyed and understood to use on exam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Avoid plot summary or theme discussion only, there must be analysis in relation to them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3780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00"/>
                </a:solidFill>
                <a:latin typeface="Arial"/>
              </a:rPr>
              <a:t>Study Tips for Math/Science</a:t>
            </a:r>
            <a:br>
              <a:rPr sz="4400"/>
            </a:br>
            <a:r>
              <a:rPr b="0" lang="en-CA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ffcc00"/>
                </a:solidFill>
                <a:latin typeface="Arial"/>
              </a:rPr>
              <a:t>(Yes you can and should study for math!!”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Make study notes/webs of terms, formulas, examples of questions &amp; solu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Redo  unit tests/reviews, actually doing the calculations to remember procedur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Arial"/>
              </a:rPr>
              <a:t>Then do the related questions on the prototype and check the answer key. Do more than one so you can see different ways questions may be aske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Arial"/>
              </a:rPr>
              <a:t>Study using the formula sheet from prototype, id the ones which were from optional units to prevent freaking out over  unfamiliar formul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de.ballek</cp:lastModifiedBy>
  <dcterms:modified xsi:type="dcterms:W3CDTF">2011-04-05T17:42:30Z</dcterms:modified>
  <cp:revision>25</cp:revision>
  <dc:subject/>
  <dc:title>Departmental Exams      </dc:title>
</cp:coreProperties>
</file>